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3C9D-B9F9-4575-8B93-DA6CCB6A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02DC-A479-499B-9F02-73464AD5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D580-EA8B-4B3A-AF73-40BB62C6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626D-5413-46EA-B675-B241935C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A34C-FA6B-4218-B942-D0BC3DCA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0FDD-7E1E-4586-9F00-C822D899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DA60-B6FB-4466-86BA-D9ED4615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6802-05A0-42E5-AB9B-99FB7A68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6F88-6F5D-4847-8BEA-51463F4E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98F7-9E28-43A3-A55E-53A42644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9792-3D42-4B0E-9E34-04EFC42F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A138F-8B5E-4B57-8ADD-F4A6E9EF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653B-8C2B-421C-AF78-FA89C9BD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1AA4-E63F-4116-8D2D-65B4A45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0080-4E54-447A-9484-B1A12827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F67D-CDFB-46BF-AFA5-89E6DD95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B11B-F84E-4DBE-B9EB-B0174EAB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08C4-5BEB-47EA-84B1-B7059A9F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E0BC-EE9D-41E9-B246-5D916880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5A8F-BDDA-4EE1-AE2E-BD0FDEB1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A7C2-C863-4F6F-BE95-DFFF9442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A3BE-6E34-48AA-9F0D-1D3FE28E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B4536-7445-4AFF-8560-5CF178FC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35A60-084D-4D21-ACA2-9873AB44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498E-52F0-4A40-B0C2-3F5FB7C792B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FB07-7C4C-4A2B-8C66-F761416B822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52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39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езна от шемет висот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 Господ Бог превазвишен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ихии, тъми далеч прат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ри в подножие враг свален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херувими ангел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небето славно полетя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с вятъра се окрил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облак сияен от цвет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тихне буря и поко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ирепи хали да смълч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тях възсяда мирно То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окойно гледа ги в очи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славен е Йеова Бог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звишен, вечен Господа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ди във царствен Си чертог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небе, земя е мощен Ц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05876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Алфа е на тоз просто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зпръсна хиляди звезд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пространния небесен двор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ечен път им отреди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ържествен ход летят безспи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зливат светлина навред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тлее вечно в този свя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ня истина навек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27:14Z</dcterms:modified>
  <cp:revision>47</cp:revision>
  <dc:subject/>
  <dc:title>Slide 1</dc:title>
</cp:coreProperties>
</file>